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93"/>
        <c:axId val="48214116"/>
      </c:barChart>
      <c:catAx>
        <c:axId val="792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4116"/>
        <c:crosses val="autoZero"/>
        <c:auto val="1"/>
        <c:lblAlgn val="ctr"/>
        <c:lblOffset val="100"/>
        <c:noMultiLvlLbl val="0"/>
      </c:catAx>
      <c:valAx>
        <c:axId val="4821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1D6-C958-460A-B53A-2B80D4AF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E54-136F-40B9-B6D5-FD2864E0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898-6A40-4659-B8CC-75699C8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1BA-8098-42ED-A854-BE32CF8A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9A67-6987-4ADB-9612-35E32E1A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C26-BEDC-41AC-BBC4-6BC5EA1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03F-BFDF-4A93-B754-53FB3D5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206-7F16-4EC0-8EF6-3892A1C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858-7089-41B1-8EAB-B975AD2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F8B-8A51-4A03-B121-8CF2F88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A25-92FC-44FB-B96F-2AA5A631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9AC-083E-4CBA-B966-D2FBFC08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99680-099F-4504-8989-92D6D20F7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