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073537"/>
        <c:axId val="53593170"/>
      </c:barChart>
      <c:catAx>
        <c:axId val="290735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593170"/>
        <c:crosses val="autoZero"/>
        <c:auto val="1"/>
        <c:lblAlgn val="ctr"/>
        <c:lblOffset val="100"/>
        <c:noMultiLvlLbl val="0"/>
      </c:catAx>
      <c:valAx>
        <c:axId val="535931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0735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A415-40E7-428F-85A3-1F903CB5D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D625-6DAB-4A9D-9430-08B0FB097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C3C7-7073-4480-B121-F3B1AD0B1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CACD-8920-4D4A-BB9D-BE8377A54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200D-32F5-46BD-B675-D1B7ED5EC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0164-94E5-43DA-9461-47667476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AACD-0460-4DCA-AA12-4BACC0613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F580-F879-44C6-9D3F-92AEA27CC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5B14-A9CE-469A-A267-643C083CF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66F3-D49A-4CB9-87BF-46700EC2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16FF-59A4-43E8-B0A8-A31475CB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8775-A49A-470C-8F28-69807182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D3BB50-2B03-43D6-900B-885A15AA547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